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1A59-3448-4DE6-9E5E-5DAFE9D9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7501-CB68-4030-B8FA-F1C6C1CF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7003-D843-47D1-B310-E1F0C862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7F91-72A2-41B1-AB7C-F9C76B81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179F-5253-404C-84B9-9DC2BF93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8EF4-1E14-4B29-BAF9-41FA41D0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20D7-CDC6-4E4D-9DAE-7A69FCC8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ECEE-FC0B-42C0-A794-FD51C7B4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AD06-0B1C-4EC7-9A34-20956DF4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DC32-BE17-413A-B11E-BA11A2D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6373-5BC1-455F-AC01-B574C089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5FD8-20E6-4474-8DB4-BF5635B7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17F1-1CAB-44DA-AC03-717F8EF8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7372-B7ED-441E-9235-7157DC17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7573-AB0C-4357-87D1-F70A871E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68FA-F4EE-49A0-AF99-5C120F9D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8432-9BA5-45F5-A672-64A27CCB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55E4-08F9-4019-B8B0-852BB0C8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725C-5363-4B76-819D-F4098D84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CEFB1-9FE9-41C2-BF0B-05FFD091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EF03-44DE-4349-88E0-08F352EA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A98E-D72B-490D-9B8E-FA83BAEA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ED41-FE12-4450-94EF-097BE6BE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8C3A-6642-4E86-950A-4B6F3F00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E60E-0D23-4A15-8ADD-46E3E9C6645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28C5-E7F7-4FDB-BD07-213CCD391A7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53532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9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3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В този свят пустиня, Боже, настави ни и вод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аби сме, но Ти все можеш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пази ни от бед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хляб небесен, с хляб неб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Ти храни ни всеки ден!:] всеки ден, Ти храни ни всеки д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Дай да потече за нази животворната вод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тълбът огнен да ни паз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тази мрачна пусто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кровител, Избави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Ти бъди ни навсегда! :] навсегда, Ти бъди ни навсег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83520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До оназ река дълбок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о дойдем - до Йорда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веди ни през поток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еди ни в Ханаа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чна слава, вечна сл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ще Ти пеем ние в рай! :] ние в рай, ще Ти пеем ние в ра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3:05Z</dcterms:modified>
  <cp:revision>131</cp:revision>
  <dc:subject/>
  <dc:title>Slide 1</dc:title>
</cp:coreProperties>
</file>